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C63C-E333-480D-9E3B-3499D2B7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D7B5-35EB-4336-967B-080576DC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FF3E-F85B-4C94-B5B5-E843DD50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F7F4-89B4-4BEF-A8BF-26FEE309D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5CF0-4C13-4A8A-B86F-37E10524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6B37-FC6E-4DCA-B36E-DDC848FF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9D1D-B2EE-4053-9A8C-135363FD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2A93-F629-4E30-9086-823C4B69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EB1C-D600-46DA-A2E9-E0A5A571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45F6-D14E-4589-A793-48ACBC2D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2718-9F2B-4267-B7D5-795D4282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2803-4DB0-41B0-82F5-4BFC1EA9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052C-E331-4E9F-89D9-1E15CD89A0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dvanced Problems 1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8284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problems will conta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concepts of velocity and accele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age of proper physics 1 kinematics equ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calculus techniques, such as derivatives and integ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eed of a bullet as it travels down a barrel of a rifle toward the opening is given by v = -5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3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. The acceleration of the bullet as it just leaves the barrel is zer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 the acceleration and position of the bullet as a function of time when the bullet is in the barr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 the length of time the bullet is accelerat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the speed at which the bullet leaves the barr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length of the barre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04920"/>
            <a:ext cx="8610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457200"/>
            <a:ext cx="80769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daring ranch hand sitting on a tree limb wishes to drop vertically onto a horse galloping under a tree. The speed of the horse is 10m/s, and the distance from the limb to saddle is 3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must be the horizontal distance between the limb and the saddle when the ranch hand drop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304920"/>
            <a:ext cx="8610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457200"/>
            <a:ext cx="807696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est rocket is fired vertically upward from a well. A catapult gives it an initial velocity of 80m/s at ground level. Subsequently, its engines fire and it accelerates upward at 4m/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ntil it reaches an altitude of 1000m. At that point the engines fail, and the rocket goes into free f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long is the rocket in motion above the groun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its maximum altitud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its velocity just before it hits the groun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304920"/>
            <a:ext cx="8610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457200"/>
            <a:ext cx="807696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hysics student and a mountain climber climbs a 50m cliff that overhangs a calm pool of water. He throws two stones vertically downward, 1second apart, and observes that they cause a single splash. The first stone has an initial speed of 2m/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long after the release of the first stone do the stones hit the wat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as the initial velocity of the second sto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velocity of each stone at the instant the two hit the wat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304920"/>
            <a:ext cx="8610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457200"/>
            <a:ext cx="8076960" cy="46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standing on the ground at the origin of a coordinate system. An airplane flies over you with constant velocity parallel to the x axis and at a constant height of 7.6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. At t=0, the plane is directly above you. At t=30s, the position vector from you to it is given by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(8.04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(7.6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Determine the magnitude and orientation of the plane’s position at t=45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304920"/>
            <a:ext cx="8610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457200"/>
            <a:ext cx="80769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the displacement vect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= (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m and B= (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m find the magnitudes of C = A + B and D = 2A – B also expressing each in terms of its x, y, and z compon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304920"/>
            <a:ext cx="8610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57200"/>
            <a:ext cx="807696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adar station locates a sinking ship at range 17.3km and bearing 13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 clockwise from north. From the same station a rescue plane is at horizontal range 19.6km 153° clockwise from north. With elevation 2.2 k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rite the vector displacement from plane to ship letting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present east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represent north, an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represent 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far apart are the plane and ship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304920"/>
            <a:ext cx="8610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457200"/>
            <a:ext cx="807696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vector is given by R=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+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+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nd the magnitudes of the x, y, and z compon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. Find the magnitude of 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. Find the angles between R and the x, y, and z ax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04920"/>
            <a:ext cx="8610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457200"/>
            <a:ext cx="8076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3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general, the instantaneous position of an object is specified by its position P leading from a fixed origin to the location of the object. Suppose that P=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+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2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here P is in meters and t is in seconds what is the derivative of this position function? What does this derivative represent about the objec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ndestructible bullet 2cm long is fired straight through a board that is 10cm thick. The bullet strikes the board with a speed of 420m/s and emerges with a speed of 280m/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average acceleration of the bullet as it passes through the boar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304920"/>
            <a:ext cx="8610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457200"/>
            <a:ext cx="8076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4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jet airliner, moving initially at 300mi/h to the east, suddenly enters a region where the wind is blowing at 100mi/h in a direction 30° north of east. What are the new speed and direction of the aircraft relative to the groun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ish swimming in a horizontal plane has velocity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(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m/s at a point in the ocean whose displacement from a certain rock is 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(1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m. After the fish swims with constant acceleration for 20s, its velocity is v = (2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m/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components of the acceler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direction of the acceleration with respect to the unit vecto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is the fish at t=25s if it maintains its original acceleration and in what direction is it mov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article initially located at the origin has an acceleration of a = 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/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an initial velocity of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/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the vector position and velocity at any time 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the coordinates and speed of the particle at t=2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. A projectile is fired in such a way that its horizontal range is equal to 3 times its maximum height. What is the angle of projection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lacekicker must kick a football from a point 36m from the goal, and half the crowd hopes it will clear the crossbar, which is 3.05m high. When kicked, the ball leaves the ground with a speed of 20m/s at an angle of 5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 to the horizont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y how much does the ball clear or fall short of the crossba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es the ball approach the crossbar while still rising or while fall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rain slows down as it rounds a sharp horizontal curve, slowing from 90km/h to 50km/h in the 15 seconds that it takes to round the curve. The radius of the curve is 150m. Compute the acceleration at the moment the train speed reaches 50km/h. Assume that the train slows down at a uniform rate during the 15 second interv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etermined coyote is out once more to capture the roadrunner. The coyote wears Acme jet powered roller skates which provide constant horizontal acceleration of 15m/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The coyote starts off at rest 70m from the edge of a cliff the instant that the roadrunner zips past him in the direction of the clif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 roadrunner moves with constant speed, determine the minimum speed he must have to reach the cliff before the coyot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spcBef>
                <a:spcPts val="60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 cliff is 100m above the floor of the canyon, determine where the coyote lands after missing the roadrunner (his skates still thrust while in midair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his impact velocity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total time that the bullet is in contact with the boar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thickness of board would it take to stop the bullet (assuming the bullet’s acceleration though the board remains the sa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tudent throws a set of keys vertically upward to her sorority sister, who is in a window 4m above. The keys are caught 1.5s later by the sisters outstretched h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what initial velocity were the keys throw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as the velocity of the keys just before they were caugh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eight of a helicopter above the ground is given by h = 3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here h is in meters and t is in seconds. After 2 seconds, the helicopter releases a small mailbag. How long after its release does the mailbag reach the groun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otive engineers refer to the time rate of change of acceleration as the “jerk”. If an object moves in one dimension such that its jerk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constan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 expressions for its acceleration, velocity, and position given that its initial acceleration, velocity and speed are 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ectively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 th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276720" y="304920"/>
                <a:ext cx="403848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1:53:49Z</dcterms:created>
  <dc:creator> Matthew Shrader</dc:creator>
  <dc:description/>
  <dc:language>en-US</dc:language>
  <cp:lastModifiedBy>End User</cp:lastModifiedBy>
  <dcterms:modified xsi:type="dcterms:W3CDTF">2007-01-30T16:12:51Z</dcterms:modified>
  <cp:revision>10</cp:revision>
  <dc:subject/>
  <dc:title>Advanced Problems 1</dc:title>
</cp:coreProperties>
</file>